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  <p:sldId id="281" r:id="rId58"/>
    <p:sldId id="282" r:id="rId59"/>
    <p:sldId id="283" r:id="rId60"/>
    <p:sldId id="284" r:id="rId61"/>
    <p:sldId id="285" r:id="rId62"/>
    <p:sldId id="286" r:id="rId63"/>
    <p:sldId id="287" r:id="rId64"/>
    <p:sldId id="288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slide" Target="slides/slide26.xml"/><Relationship Id="rId59" Type="http://schemas.openxmlformats.org/officeDocument/2006/relationships/slide" Target="slides/slide27.xml"/><Relationship Id="rId60" Type="http://schemas.openxmlformats.org/officeDocument/2006/relationships/slide" Target="slides/slide28.xml"/><Relationship Id="rId61" Type="http://schemas.openxmlformats.org/officeDocument/2006/relationships/slide" Target="slides/slide29.xml"/><Relationship Id="rId62" Type="http://schemas.openxmlformats.org/officeDocument/2006/relationships/slide" Target="slides/slide30.xml"/><Relationship Id="rId63" Type="http://schemas.openxmlformats.org/officeDocument/2006/relationships/slide" Target="slides/slide31.xml"/><Relationship Id="rId64" Type="http://schemas.openxmlformats.org/officeDocument/2006/relationships/slide" Target="slides/slide32.xml"/><Relationship Id="rId65" Type="http://schemas.openxmlformats.org/officeDocument/2006/relationships/slide" Target="slides/slide33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5245-711F-4A11-A9F2-D4A3F68FF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8FB9-6BFB-4DC2-B8B5-3CFE771C7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972700-67DD-4D2F-94D3-B077091D5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8E4943-98AC-4861-A51F-EF27DAD55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F8CC74-6559-4665-B070-295DD9820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B1AB94-A9A9-4F2D-AEE6-2926487D4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190C8E-E85C-4004-92A3-1896E927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76D75C-5C7A-48A7-918C-F3722A10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8946BE-1DBE-45D3-BEE7-20A8E8B73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B3F499-BC04-45ED-9960-6CFE2432A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299156-CC05-4266-90C5-5D011E08B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07A6DA-0683-46FF-834D-ACA09AD33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A619-F67C-4837-928A-B24B84DC4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7C9887-75A3-4879-A9E6-9B84EFF26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FC97C1-66E0-4AFD-A0EC-172A10696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84E14F-B4CF-40F1-8985-BD117B4A5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E2EA5A-5656-425F-BB6B-C2D270D77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B54335-C594-4962-8DC0-5F89838A8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3A49FA-9DF8-4F6D-8C9B-7A719177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DE4BA4-BD5F-4B97-BED3-788D665E9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181E2D-1008-4DD7-99C6-E30C0530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F48AB6-9A75-426E-BFA0-DB0105807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84ED8D-6999-4942-8864-434E61FDC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6F85-D16B-45E2-83B1-481DBBD59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934C5C-BB08-41D8-BBA7-A96BEE16F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832012-C61D-4A73-901C-7B999DC72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27B38E-E8E8-4308-BD28-F50D7B4F6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E4B660-257A-4710-A7D2-CA69CD720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4763DD-5EF2-4202-82B0-4408EF3C7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38A81A-7C0B-49DF-BD83-E4E7C8A69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170FF8-E99D-466B-ADB6-46C7A4592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7CB33E-DBEF-4C7F-BA9C-36B679A6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789654-5230-46C5-9DF3-FC609C10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00F6E1-4868-46CD-B318-0B6383FA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C82AD-283E-4560-8A8B-EFDEABEB4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9DDF49-107F-494F-A821-6830D7C35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EC32B6-8A4E-472D-865F-272233472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8CCE8E-B122-47BE-A3A1-62EECE243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8B9B59-5C66-4DFB-AE4C-64F6B775E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9F5A05-8A01-4838-848C-2D290B0B3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158D2D-4BD6-4044-B99D-24C457641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1FF587-D794-456A-BA2E-44D197D97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520279-5A13-481A-B807-ACBDD59E3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B249B3-7BC4-4B65-ABF4-725519F52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0D0840-E8A1-48E6-80DF-15381F26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446C0-525A-4B86-A896-009CAC9B4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5B640E-8279-4B07-9854-EC1261B2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932DCA-DDB6-45C7-9FC7-964A2AF3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4CE144-1A33-4AEF-A47D-DC3E0D870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412649-AF38-40D9-9AB6-6ABD182B9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D3F360-5E7B-4137-BF38-EA4C3E8B7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C47F19-9545-478D-AF5A-CBB771942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69188A-F3C8-4B58-9CF3-526BC468D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2A3B28-2433-4B74-9725-9F75DCE42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957868-8513-47C7-9F33-9DADCD8C2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702B66-EE17-4C9C-B5B3-64096E2EE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2048C-EE2E-4F87-8EA7-44D6C34B0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F0592C-C296-4D33-923F-9A8A928C4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DB0332-84F5-4E44-9C03-A7BA6094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5551AF-CD53-4CAC-B003-69858E6D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BE7901-63C8-4195-8F40-CDE56904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96C2DB-CFFA-4DDF-B8B6-45FDD91D2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61158D-D3D9-4113-B9BC-A3466BE80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56E9C9-C1CC-40A7-8D25-AB8D567F2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272FDD-32EA-4B7D-B769-041E4B085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EAA8E8-FA1A-4F20-8344-2A127BFAA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600D82-E637-4549-BE8A-9A399A1CD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387BB-CEA5-4439-9DAB-53813C394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22CC65-88CE-4B5F-826E-08244BF1D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2EBAA6-242B-437E-BB8B-BC788DE22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25D966-0EC3-48C5-AF51-FEF33C624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105364-9C50-46CD-9BBB-12674D6E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30F741-03ED-4450-93AC-610D9B96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F0110F-2C63-4BED-BB0C-AAA44646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1266B6-0DCE-4D9A-B3D0-74E6CAB6B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5DBFDB-966C-4926-A002-7CBBCD387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AB32CF-6BC8-460A-A068-DD56C48E1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A8CA9A-3015-4C32-A5E4-39A2ED0BC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DDC1A-DD26-471E-848C-384FD317D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51453F-158E-4412-98F1-DF08CB450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A51FC5-C7D0-448A-8836-BAD1A02D7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82E908-A479-4DBE-9AC5-2FA55F45B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D8280E-B7F1-48E5-8327-26E177ED1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8B0268-205D-4C99-8BA0-70BBE3B94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5242E5-E575-4C10-8AE1-7E4FC70D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B4753F-0C14-4BE5-83A6-8B5E1F83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05AC35-3F00-4DF0-BF41-7EF99266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8760AC-4AD7-4940-B55F-3D304E01B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7F6DC7-C2F8-4D17-9ABB-4B2FCCE70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87ACE-5911-4C60-A8E0-EC1CDD6EC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046567-1BFC-47E7-8A59-D26071B8D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2458F0-0EE5-4B00-B022-A879718A5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27EB65-8518-4E2A-9389-51E38093C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7CBD7A-835F-46A0-AB95-56C69CA2D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D9B515-A8AD-48A4-A45C-38D6A8EBA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3D970F-C86A-4E40-A687-8AAA276E2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CC4F2D-8AF5-4023-A7E6-BCAD25933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28B341-81F4-4912-993C-5DB05996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C8F24D-97A9-48D8-A242-6E92DDC9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793493-FB20-46F3-97CD-050C383E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F5578-C8F5-4408-A8EA-72BF2AAF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E3CBBB-40F7-4526-B98A-9A12704A6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C2B69B-6F89-4A8B-AE0B-0BCE5ED4E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23A9A2-3355-40BA-9057-201A42E5E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39A16C-715D-4424-826D-2E905E52B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D2643C-F75E-40A0-80E6-A99A57F87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268CF8-EB8E-4553-A9F0-E1F3C10EA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7882D2-F76E-4D12-BD09-A78D065F4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807ECD-6BBA-4E1C-A609-50E50AC6F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FE1062-85AB-495D-974A-6A88FE3A0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D34A1A-798F-40A4-92F0-0C84F829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25F2-35C6-4B56-8970-C5556BB0B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2F3BA-3F33-4E62-92BB-F8BC8FAC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E3A5CF-9EB8-4181-8D72-34287687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99102C-91A0-44E2-93E6-F6561D3A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E7AFAE-BEB0-4123-939D-D3AC6FEE0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AED39A-DB95-46E7-807B-12A0C6C17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AAFEB7-3A3A-4D35-9CAC-BFDBF2107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BD8455-8702-47C5-B604-43C7F5AFD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E62884-1AE7-4446-98C8-F7095BC37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EFE79F-5880-47C6-92DC-EB9DB14E8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FA15B7-711D-496D-BD74-8FDC29193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578B10-898F-449D-95D5-02D42B318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2F442-DE99-40CB-AA1A-709BE796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754F45-891D-4DED-88DE-684E0DD45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2C71CC-402A-47CE-A502-948AFE1A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9511F7-B397-491E-B042-F90C526B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3BB448-F225-46D7-9621-42EA9BDA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033417-1ABE-4D92-8DCF-E641D00DA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CECE32-EEE9-4707-B0B3-DC7A98029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44CBE0-EBD6-4253-B67D-0B2233242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303E01-462E-45B6-966C-9F52C2062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668F19-6294-4D03-A0E2-FA29FCE85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36892F-2DE4-4951-B512-4F7FC7420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CE5FD-5909-4F47-8FFF-C059AA203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D4CDE2-BA06-436B-B6EC-74250F5AB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B87430-6895-4054-8C8E-F4E7C7B56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C993EF-2B4B-4E3F-8D83-74FFEF35D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46F22B-CCE1-4DB4-951C-3003235A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8F280F-50AA-4FD9-B11D-EBE2F8DC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E7BA90-C0C4-4965-8D37-C0C562CA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C4B721-85C3-43F8-AEB9-2A6BE6B93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3E24EE-0D99-416E-852E-3A6D04ADF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B12574-A09D-4BF1-B211-D5798C8BF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B15297-7DAF-4D04-95A0-683EF4C30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F46A3-60FB-44B5-B8A4-7D635F3AF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2D0CF4-E6F3-42A3-9D4F-27CCD9B09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ADD2F7-3566-4B92-BB9D-7A2C61E6A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0665B9-21C5-4264-B188-C12108106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37FE01-1189-463D-8A51-E4EB974A6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96016B-3253-4AA7-AC96-D09265835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1AD1AC-D4C2-4731-8AF6-BCE78236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967B97-D869-4742-B9FF-AD0292F4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833A39-B736-48FD-B95D-FF8D8E80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60A8D7-79ED-424E-903C-6504C24D1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0CC7A9-B5C3-47CD-A449-526AB1163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6471C-7453-47CD-88CB-5A7BAE568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B2A757-1C7D-4257-823F-F2014C408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E8AD6D-F42F-400D-8756-1E63774E7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01EB37-B16B-4708-BD79-2AFADE7BD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9CECAE-5533-42DD-BAAF-E06C4413E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5B5DE2-B90A-4273-917F-CF12983BB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609DF0-5A0E-4B3C-8BD7-E9FD8408E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10EAED-559C-4C8F-97AC-B202D2B1D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ECDFBD-89A0-4453-83A0-9DF6819C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CF7112-245A-4620-BD0D-E9830D29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E8603B-A756-423E-9382-4DF3B347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2FA45-2E3E-432E-ADA1-8D020872C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8055FD-1F17-4D70-A7D1-195456A41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3FDD95-966D-481D-AC72-369C36996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0DA3BF-4F25-4C0D-A86C-42FE9A59F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8C0CF48-0D7F-40B7-AD13-A39733EBF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0DF860A-A9AE-4C1C-BFE3-CD6C301D8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A0AC94-72BD-44B1-AD15-91004121E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265880F-8795-4F36-A938-B3E07CAA9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68A27E0-FBD8-48A5-BCBB-D37B1351D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4CF48D2-BD3C-4F39-AFBC-570202D7A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0EB48BE-2993-4782-ACDA-D105D641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68A35-B905-4E75-B1D0-47A6F6FD6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4ECBC64-64C6-4DB8-AC31-7FBD2825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D7CFCF0-2221-4066-B6B7-D4FE638D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7ED4748-D9B9-4F90-8113-E2A46896F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3F96A52-A17A-4D7A-B3C6-4665FE6D6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164D75-3020-4D7B-8AC4-38E917F61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409A1F6-3575-49FE-8999-A643F773F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9DA588E-8259-4F16-B5D6-0361B8B6A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31BB526-45A4-4F4B-BC06-D634E747C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49B2632-9B77-4D59-BC68-062EA49FC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C3F6057-F757-4870-9E4E-9AD510777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6F290-7C9E-4D32-A471-9A43AC7F6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FC96844-3545-4C95-A613-09863510F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208AD4C-1C36-4837-84D3-87915D43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007D47F-2125-46AA-9E4F-946C1870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B4B015E-421E-42D8-BFF7-54F7F991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B2DFD9-4EF6-46BF-AEE1-498A65C9D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E8EE39D-13BB-4B81-BF1E-C5AB62DB7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774A9C0-6290-4A47-828F-A622B5E8E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F325F86-93FB-47BF-AA73-E9E2B4BED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FE34D0B-BDC8-4703-8E44-AD83F1695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5DDFAFC-06CE-498E-8025-C4C61390A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5FA0B-B5F9-4A6F-A1BD-061D2A2C5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3D6386A-6E54-4418-8770-DA415007C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7F642E8-D88E-4D23-A91E-185A240AF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6DD8F4D-F78A-463D-B647-FE1AFE6FF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EC5F037-3646-462A-9E92-E584E48F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D423F87-FB59-47F7-8A60-F0737979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B330C4E-C407-4C3A-B0C0-98B6B06C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4404D35-D4A5-4E6C-9E39-2D0FB8332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FAF7A48-CC51-4C76-BD04-F3C4FE49B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AFE0C69-19F4-40B8-8D8A-6574BD45B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7C69745-A5B7-4875-A5AC-8E3814C2A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934BF-20CB-4E97-97F2-B3DD3F582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4B1C7D5-90A1-46B1-8FC0-702E7DC98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7B5DD6B-49A6-419B-A212-2B3BDE021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A506F74-ADA6-418D-AB47-6F59B4D76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A7460D9-588F-43DE-9251-EDF84EE84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02EFE6F-38DD-4A43-9386-7F3AF33D7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0B2E259-0B91-4BF6-8DE1-A117DB1F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08D15EB-C6F9-40F9-8995-69F8C456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22DC653-DBC9-4CFE-86C9-6218D968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A14C1E7-EE01-45A6-BE58-3277C71D9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20DCD35-B51C-4D62-A589-D669E5DFF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69C9-9772-4BAC-AA1A-EA8E55757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C168C-FC35-4E96-9F3D-732C87372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6B6BD42-4E94-4F23-BD18-3BF13DD14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9DF0604-8DCA-453A-A96E-38BA69612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141D746-BC0A-4B3C-9C42-79DAE3C1E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0E179C0-3501-4D19-B6DD-8C4F77D21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2F961AB-DD6C-4BA4-BA81-0E05DD75C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F0D36E9-394D-4B3C-8A99-654313104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F7B2DCE-1392-4C82-A4D1-BCB7588C4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F0BC2D7-CAFA-477C-988D-96C12C51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8F8EA52-977F-4863-8C46-4A2FBB18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4F06175-5C87-4A7B-BB34-B3AF1938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B2C13-21F9-4DD3-9F21-B1727A62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D8F7356-9C32-46AE-9B47-C884AB577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2F2CCCF-9855-438C-94FC-33D46E6A2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1D290D2-1C69-4070-8342-9CFB2309E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E706E92-CB5B-43D7-9307-013E8616E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3DA4859-4C3E-4D7A-B45B-88F842B8E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4E365BE-417E-43C8-A09E-9C7251669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3A0A34C-DA2D-4F4B-8B64-2DF13C6AC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8D5BC92-7B9D-4E6D-A609-DBCA47ECA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CCDF088-1B07-4A07-B610-3C5A21F19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B06A860-CAD1-4779-8CF9-9028CFD8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03C3E-79ED-4222-BFAC-8A4A4885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DBCC03C-5DF8-4380-8BED-FFB48DCE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DC9D195-8283-45D5-BDF7-966D43BC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FC1F93A-C93C-4A84-80B0-557D23BA1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7422D8B-41BF-437D-BA11-5AFDF804A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5568151-30CE-486D-8C3E-6F94B4FAC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AC9B4CB-7A46-402E-899F-24D29DFAA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88CFEBF-F3C2-4E6A-8122-CBD517B65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32D370E-8CA0-4053-9A16-887FC66EB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48F9CFD-0273-4FD1-B21C-DF3DA9B1F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5543F8A-5C9B-48C2-B58F-73A7617E8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77A52-B20E-4C37-887C-09075298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C9E4174-6699-4CCB-94B2-AF38B0D5C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92457F4-9C59-4ABD-95D1-E18ED138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11709F5-6FD0-49EB-9BD1-ADB04311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BA30CF5-F5D3-4CB2-B7D2-8E04757C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39AFCD4-3CAB-4863-B392-966E1F2B6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4D51F4F-5BAA-4A75-A742-C85047099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0AE2185-86D3-4F38-AC36-37938697C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AD88CB2-59FF-4C23-B4A5-709E5ACF8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01A7006-DFA0-45BA-ABE9-52B9BA53E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CCAD7ED-A85F-4528-B732-D2161CEB1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CC9BC-0385-4336-A03D-63E324465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10037B8-4F30-413D-808C-398D2528E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098F468-5955-425E-B17B-261D683DF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6FBA88C-C9F3-4AFC-87E6-AB3DCB7F9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81CC0F9-1309-477A-99BA-255AB294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35B3D72-DA72-4326-9938-B2B9B009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DBE21C1-EC16-4B0F-953C-DC35B292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9B86CA0-F155-4C6D-9418-E0F1690BD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6FCA60F-6009-4539-BF85-EC336BACC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39B8B09-58BF-43B6-8107-6AB2CACC8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060F46C-9917-4CB4-B07C-CF2F71180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C5196-0A01-4E12-81AA-EC3D182AB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3541779-D018-4012-916C-E9588DF5D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BEAB3D6-CD68-4023-B5DE-CAD3CE4AC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65DF667-0366-4BD9-975C-B73BE6417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18DFCD7-46FB-433D-B7F2-05B65846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61C968E-B142-48C5-BD04-95A52AFC0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DCEDC2D-8A93-488C-9722-FCB8FE83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3E99717-7771-4DEB-BE9D-7AFD83E2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4B983C6-8E5A-45EE-BB02-2D562DAE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B649F9D-2DCA-4248-B588-83A51CE35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1A30B68-0006-417E-AD2E-053EDDF13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5C576-A3E9-4553-B055-8466B206E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86F173B-61B1-4E59-953B-6303B66C5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6402217-CAC2-4207-8B78-1339830D2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BDA6154-2CE0-425B-AF8A-B204A4918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2116EC6-6E28-4989-BF4B-D9F75D9A8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F31DEF3-1248-4E50-9435-0AF612623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2960DDC-39BB-4A04-9C9C-9C508AA1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525E1F3-81DE-41C7-A01D-8FF518EFF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41CB320-F2B0-43CD-8FD5-5BB37B62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6F9C2DF-387B-47D2-8F32-1E764D1E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82EBBAD-8B7C-4B64-B94B-59036657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F3D53-CE89-48B0-BD1A-DBDA3E77D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6015A02-1A16-419F-95C7-D658E8C2F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F2A235A-7D82-4F21-B4D3-0EC37C2DF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D56EA04-DEDD-4A03-B790-605B22C70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508D8-7DE5-4908-93CA-FF0B05133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D70F2-6636-4AB1-BE8C-1E3868D1B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F1EB-FD71-446F-A59A-45941F43D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03FC2-A3C8-45F7-B5D9-6B544FBE0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C3305-B37C-4E05-9FEF-8B57BA429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8B170-8F47-41F9-9D72-269A7BAFF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4C50F-FD7E-4056-B880-B3333FAD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D4755-0F22-47A1-B408-5B0CA46A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F3FFB-D87E-46A6-812C-1CD58871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03B2E-E484-47FB-86FB-EA2070CE6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F7B86-FEDD-4466-A359-6E566509F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1782C-A3C1-48E4-AE6E-E77897F4C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6E7C8-E070-48AA-9A4F-54F6D9EB0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41BF-94CF-4388-ACC2-5080210E1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71E84-A937-4316-83D5-42D0ADDD4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EA021-D789-40AB-9323-97F2DBD6C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0F84E-EB63-4EFC-B9CD-956DDD290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6E920-1777-46BC-A13E-81EB36583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5A04D-F13D-496E-ADCD-0B402E4E4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7A818-198C-41B4-9BA5-C94FB521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1048C-7390-42AC-95E4-76D7A87E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81A17-E78B-41FA-870C-97737774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A78F9-2DE8-4005-B537-087FC5706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DCB2C-A803-46B8-9254-6893AD232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8D6A-1E59-4A6A-AED5-A96D4A935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AB1A1-679F-48D1-80C9-584087D46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0DDBF-D9BD-435E-B8CA-39A8ABEC5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C26A9-B161-40E1-A57A-A9804EC20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701C2-4E5C-4852-8777-DB1679114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DCFCF-102B-4642-834D-2CB1ADC81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04D84-DD68-4E69-84F4-2806D7A2B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CEFE2-7AF7-4BA3-83DB-1F381BF1E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671296-0044-47D2-857A-D4463698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7F00F-ADB1-4134-A713-5BFCCBBC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1B86C-001D-4D1E-BA50-DB4DA673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5873-444C-40D9-8087-65BB18AD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3EE1D-565C-4C29-A93F-850912754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F49FA-337F-4734-820C-C094F7773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706099-7D37-42BD-9F57-6360C40D4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5F126-1E29-4419-994D-6C517B874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532AC4-6A0E-4C0A-8CB0-993808128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995934-69A6-42E6-ABA0-64F8A4BE9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2B389-D47F-43F3-AD63-F9A3B8F81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9AF8F-CC82-4F5D-BE6B-441C46752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221606-3AC1-45B2-8493-7A7C0D444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2E3C6-623B-4B2C-943A-3F80E374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8EAA-41EC-420E-9909-536814FB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3C773-9076-480C-B91B-C4892603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0A714E-CEF2-436C-9302-A6DC3D92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B17E26-74BE-4A36-8DF1-0F970662B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893A3B-ED78-439C-AE13-97FA69D96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258F0D-E580-4CC5-963E-9161ACF76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BFE3D8-E541-4F22-93B1-FEDA16E51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07BB3D-249D-41AE-B6DF-2A2B9CAB0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3AA23E-CCC0-4980-8BCA-695751D1A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D57910-40D3-453B-BD03-6907C9ACF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0832F8-BA57-4CA2-9238-1CD47EE1E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94CC-8BFE-475D-A518-06CAF41EC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54B64A-77BF-4827-98A4-A6E1284F8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30065E-9A05-4F42-B8FF-34DB2B01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063F9A-22D0-431E-9C22-7EC19B58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E0DFEA-2647-42E0-B48B-000868E4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265223-7B46-47C0-A141-FD755F5F0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EEC317-B3CB-487D-8C27-27D65A9A9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9CFBD7-8A46-45AD-970F-E24310AA4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6BF156-1E73-4D42-85F3-9984F9CDD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7E49A6-FEA9-4B7C-95B4-AD3036DAB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606BE8-3FFE-4BCA-BCF3-12ABC8A4D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E6599-390E-4B88-874F-6FB0DEC018A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4E7C2-3BDE-4345-BA53-EBDFAE32D56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8D70C-4D60-4CE4-83A0-A16FBA38F42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6B338-92B8-480B-B3F1-4DDBF260EB4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B2611-3833-4F66-ADE7-3FBE1CD56B0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5F96E-C19C-4C92-BC28-EC269068DE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47898-3BFD-4234-B461-8301B9D4AC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4E2DC-4AF6-439E-9E04-B283A1AE01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1E144-8778-4E1B-98E9-B4F6C598E4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D6C55-67BC-44FF-8247-59C19D19F8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7293A-E498-4045-84F3-4B58587837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895B7-D4AE-4021-B4CA-AC7C997C57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05BEE-5C60-467E-83A3-DA2BF3470B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38E13-E659-419C-8A85-EA14E88BF0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B048B-5F7D-41C8-87C9-80FF0C1149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ED386-CA22-46B4-BF40-2227BFB74D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A4CA2-05A0-4719-BDEB-BD4D4DE0F7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FBB76-C5C2-42C2-83D0-56B70FFA59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CBD29-E0A8-4243-9472-D4E4199242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DC345-D5CA-4D84-9375-A972B7702A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0EFF6-4492-46A0-B906-C7348F5D0B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05B0D-3ADD-45F0-99EA-9DEAA6B26E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9DC1F-56B3-4A28-BA65-F2BF4D8C84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274F0-B406-4270-8484-1331BB52E2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DA990-3687-421C-8BBD-BC39F654B8A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5BA66-BBA9-457F-8B45-C9BC5D1B79A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BB369-29F6-47E7-94C1-F1AB3D303F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679DB-E1A5-4CA4-A286-F05AB3F2825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354EC-DB51-40CF-92C3-668D708FA9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C2D81-D2AF-4FED-8A31-6D8F01D68A3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6E429-1CC9-4C10-9A97-AAF9496720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38842-C394-4814-A5CE-4C3FCE2035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DBED2-2A19-4D7A-8EA2-C4270BC7D3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00720-752B-4A39-92BB-F7D45C36BA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2F1CC-8E40-4045-B454-8C2B4EEF29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FE6A9-C583-4AC3-892B-0433742C74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81E52-49B1-459C-A94D-F79934B034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80528-72EA-42B6-83DE-6A7E79516B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76EE0-3066-48D4-8283-5392704FD6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92265-F04F-4A9A-87E4-4E044D025D5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D6206-2A92-4A16-A686-103EFE3A29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9F0D9-DEBE-4F2D-990E-E558507857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635CE-BAD0-4E67-9A3F-A81DD4E206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420CD-6117-4C8E-B1C2-ED30903C7A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3D481-A0DB-470E-A2F4-D1CD6ACB3A5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B4046-A12F-47DE-9C91-A7A6BE6F72C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5F9DF-8DAE-4BD5-AA5E-0AA58D2E2E5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D61CE-FB9A-4D26-8BD3-BB098C2BADB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258DB-1DCC-442C-941C-693D277B6CB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DEF0C-C8FF-4240-ABF5-0C01B02EDB3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5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5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5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5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5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1" descr=""/>
          <p:cNvPicPr/>
          <p:nvPr/>
        </p:nvPicPr>
        <p:blipFill>
          <a:blip r:embed="rId1"/>
          <a:stretch/>
        </p:blipFill>
        <p:spPr>
          <a:xfrm>
            <a:off x="2124000" y="1989000"/>
            <a:ext cx="4638600" cy="943200"/>
          </a:xfrm>
          <a:prstGeom prst="rect">
            <a:avLst/>
          </a:prstGeom>
          <a:ln w="0">
            <a:noFill/>
          </a:ln>
        </p:spPr>
      </p:pic>
      <p:pic>
        <p:nvPicPr>
          <p:cNvPr id="1433" name="图片 28682" descr=""/>
          <p:cNvPicPr/>
          <p:nvPr/>
        </p:nvPicPr>
        <p:blipFill>
          <a:blip r:embed="rId2"/>
          <a:stretch/>
        </p:blipFill>
        <p:spPr>
          <a:xfrm>
            <a:off x="3086280" y="2986200"/>
            <a:ext cx="2971800" cy="885600"/>
          </a:xfrm>
          <a:prstGeom prst="rect">
            <a:avLst/>
          </a:prstGeom>
          <a:ln w="0">
            <a:noFill/>
          </a:ln>
        </p:spPr>
      </p:pic>
      <p:pic>
        <p:nvPicPr>
          <p:cNvPr id="1434" name="图片 28683" descr=""/>
          <p:cNvPicPr/>
          <p:nvPr/>
        </p:nvPicPr>
        <p:blipFill>
          <a:blip r:embed="rId3"/>
          <a:stretch/>
        </p:blipFill>
        <p:spPr>
          <a:xfrm>
            <a:off x="1547640" y="4005360"/>
            <a:ext cx="654372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6" name="图片 116737" descr=""/>
          <p:cNvPicPr/>
          <p:nvPr/>
        </p:nvPicPr>
        <p:blipFill>
          <a:blip r:embed="rId1"/>
          <a:stretch/>
        </p:blipFill>
        <p:spPr>
          <a:xfrm>
            <a:off x="433440" y="2390760"/>
            <a:ext cx="827712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7" name="图片 115713" descr=""/>
          <p:cNvPicPr/>
          <p:nvPr/>
        </p:nvPicPr>
        <p:blipFill>
          <a:blip r:embed="rId1"/>
          <a:stretch/>
        </p:blipFill>
        <p:spPr>
          <a:xfrm>
            <a:off x="457200" y="1514520"/>
            <a:ext cx="82296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8" name="图片 114689" descr=""/>
          <p:cNvPicPr/>
          <p:nvPr/>
        </p:nvPicPr>
        <p:blipFill>
          <a:blip r:embed="rId1"/>
          <a:stretch/>
        </p:blipFill>
        <p:spPr>
          <a:xfrm>
            <a:off x="519120" y="2043000"/>
            <a:ext cx="8105760" cy="2772000"/>
          </a:xfrm>
          <a:prstGeom prst="rect">
            <a:avLst/>
          </a:prstGeom>
          <a:ln w="0">
            <a:noFill/>
          </a:ln>
        </p:spPr>
      </p:pic>
      <p:sp>
        <p:nvSpPr>
          <p:cNvPr id="1459" name="矩形 114690"/>
          <p:cNvSpPr/>
          <p:nvPr/>
        </p:nvSpPr>
        <p:spPr>
          <a:xfrm>
            <a:off x="3008160" y="2039760"/>
            <a:ext cx="199548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矩形 114691"/>
          <p:cNvSpPr/>
          <p:nvPr/>
        </p:nvSpPr>
        <p:spPr>
          <a:xfrm>
            <a:off x="5967360" y="2637000"/>
            <a:ext cx="25653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矩形 114692"/>
          <p:cNvSpPr/>
          <p:nvPr/>
        </p:nvSpPr>
        <p:spPr>
          <a:xfrm>
            <a:off x="1420920" y="3220920"/>
            <a:ext cx="431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矩形 114693"/>
          <p:cNvSpPr/>
          <p:nvPr/>
        </p:nvSpPr>
        <p:spPr>
          <a:xfrm>
            <a:off x="8075520" y="3741840"/>
            <a:ext cx="432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矩形 114694"/>
          <p:cNvSpPr/>
          <p:nvPr/>
        </p:nvSpPr>
        <p:spPr>
          <a:xfrm>
            <a:off x="1357200" y="4249800"/>
            <a:ext cx="5951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4" name="图片 113665" descr=""/>
          <p:cNvPicPr/>
          <p:nvPr/>
        </p:nvPicPr>
        <p:blipFill>
          <a:blip r:embed="rId1"/>
          <a:stretch/>
        </p:blipFill>
        <p:spPr>
          <a:xfrm>
            <a:off x="438120" y="1666800"/>
            <a:ext cx="826776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5" name="图片 112641" descr=""/>
          <p:cNvPicPr/>
          <p:nvPr/>
        </p:nvPicPr>
        <p:blipFill>
          <a:blip r:embed="rId1"/>
          <a:stretch/>
        </p:blipFill>
        <p:spPr>
          <a:xfrm>
            <a:off x="433440" y="1319040"/>
            <a:ext cx="8277120" cy="4219920"/>
          </a:xfrm>
          <a:prstGeom prst="rect">
            <a:avLst/>
          </a:prstGeom>
          <a:ln w="0">
            <a:noFill/>
          </a:ln>
        </p:spPr>
      </p:pic>
      <p:sp>
        <p:nvSpPr>
          <p:cNvPr id="1466" name="矩形 112642"/>
          <p:cNvSpPr/>
          <p:nvPr/>
        </p:nvSpPr>
        <p:spPr>
          <a:xfrm>
            <a:off x="7859880" y="2878200"/>
            <a:ext cx="431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矩形 112643"/>
          <p:cNvSpPr/>
          <p:nvPr/>
        </p:nvSpPr>
        <p:spPr>
          <a:xfrm>
            <a:off x="7783560" y="3932280"/>
            <a:ext cx="431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矩形 112644"/>
          <p:cNvSpPr/>
          <p:nvPr/>
        </p:nvSpPr>
        <p:spPr>
          <a:xfrm>
            <a:off x="7796160" y="4998960"/>
            <a:ext cx="4320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9" name="图片 111617" descr=""/>
          <p:cNvPicPr/>
          <p:nvPr/>
        </p:nvPicPr>
        <p:blipFill>
          <a:blip r:embed="rId1"/>
          <a:stretch/>
        </p:blipFill>
        <p:spPr>
          <a:xfrm>
            <a:off x="399960" y="2419200"/>
            <a:ext cx="8344080" cy="2019600"/>
          </a:xfrm>
          <a:prstGeom prst="rect">
            <a:avLst/>
          </a:prstGeom>
          <a:ln w="0">
            <a:noFill/>
          </a:ln>
        </p:spPr>
      </p:pic>
      <p:sp>
        <p:nvSpPr>
          <p:cNvPr id="1470" name="矩形 111618"/>
          <p:cNvSpPr/>
          <p:nvPr/>
        </p:nvSpPr>
        <p:spPr>
          <a:xfrm>
            <a:off x="7885080" y="2890800"/>
            <a:ext cx="4320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1" name="图片 110593" descr=""/>
          <p:cNvPicPr/>
          <p:nvPr/>
        </p:nvPicPr>
        <p:blipFill>
          <a:blip r:embed="rId1"/>
          <a:stretch/>
        </p:blipFill>
        <p:spPr>
          <a:xfrm>
            <a:off x="447840" y="1457280"/>
            <a:ext cx="8248320" cy="3943440"/>
          </a:xfrm>
          <a:prstGeom prst="rect">
            <a:avLst/>
          </a:prstGeom>
          <a:ln w="0">
            <a:noFill/>
          </a:ln>
        </p:spPr>
      </p:pic>
      <p:sp>
        <p:nvSpPr>
          <p:cNvPr id="1472" name="矩形 110594"/>
          <p:cNvSpPr/>
          <p:nvPr/>
        </p:nvSpPr>
        <p:spPr>
          <a:xfrm>
            <a:off x="7885080" y="1989000"/>
            <a:ext cx="4320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3" name="图片 109569" descr=""/>
          <p:cNvPicPr/>
          <p:nvPr/>
        </p:nvPicPr>
        <p:blipFill>
          <a:blip r:embed="rId1"/>
          <a:stretch/>
        </p:blipFill>
        <p:spPr>
          <a:xfrm>
            <a:off x="423720" y="2214720"/>
            <a:ext cx="8296560" cy="2428560"/>
          </a:xfrm>
          <a:prstGeom prst="rect">
            <a:avLst/>
          </a:prstGeom>
          <a:ln w="0">
            <a:noFill/>
          </a:ln>
        </p:spPr>
      </p:pic>
      <p:sp>
        <p:nvSpPr>
          <p:cNvPr id="1474" name="矩形 109570"/>
          <p:cNvSpPr/>
          <p:nvPr/>
        </p:nvSpPr>
        <p:spPr>
          <a:xfrm>
            <a:off x="7956720" y="2708280"/>
            <a:ext cx="431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5" name="图片 125953" descr=""/>
          <p:cNvPicPr/>
          <p:nvPr/>
        </p:nvPicPr>
        <p:blipFill>
          <a:blip r:embed="rId1"/>
          <a:stretch/>
        </p:blipFill>
        <p:spPr>
          <a:xfrm>
            <a:off x="404640" y="2009880"/>
            <a:ext cx="833472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6" name="图片 108545" descr=""/>
          <p:cNvPicPr/>
          <p:nvPr/>
        </p:nvPicPr>
        <p:blipFill>
          <a:blip r:embed="rId1"/>
          <a:stretch/>
        </p:blipFill>
        <p:spPr>
          <a:xfrm>
            <a:off x="495360" y="1442880"/>
            <a:ext cx="8153280" cy="3972240"/>
          </a:xfrm>
          <a:prstGeom prst="rect">
            <a:avLst/>
          </a:prstGeom>
          <a:ln w="0">
            <a:noFill/>
          </a:ln>
        </p:spPr>
      </p:pic>
      <p:sp>
        <p:nvSpPr>
          <p:cNvPr id="1477" name="矩形 108546"/>
          <p:cNvSpPr/>
          <p:nvPr/>
        </p:nvSpPr>
        <p:spPr>
          <a:xfrm>
            <a:off x="7885080" y="1989000"/>
            <a:ext cx="4320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5" name="图片 124929" descr=""/>
          <p:cNvPicPr/>
          <p:nvPr/>
        </p:nvPicPr>
        <p:blipFill>
          <a:blip r:embed="rId1"/>
          <a:stretch/>
        </p:blipFill>
        <p:spPr>
          <a:xfrm>
            <a:off x="447840" y="1514520"/>
            <a:ext cx="824832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8" name="图片 107521" descr=""/>
          <p:cNvPicPr/>
          <p:nvPr/>
        </p:nvPicPr>
        <p:blipFill>
          <a:blip r:embed="rId1"/>
          <a:stretch/>
        </p:blipFill>
        <p:spPr>
          <a:xfrm>
            <a:off x="433440" y="2109960"/>
            <a:ext cx="8277120" cy="2638080"/>
          </a:xfrm>
          <a:prstGeom prst="rect">
            <a:avLst/>
          </a:prstGeom>
          <a:ln w="0">
            <a:noFill/>
          </a:ln>
        </p:spPr>
      </p:pic>
      <p:sp>
        <p:nvSpPr>
          <p:cNvPr id="1479" name="矩形 107522"/>
          <p:cNvSpPr/>
          <p:nvPr/>
        </p:nvSpPr>
        <p:spPr>
          <a:xfrm>
            <a:off x="7812000" y="3645000"/>
            <a:ext cx="432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0" name="图片 126977" descr=""/>
          <p:cNvPicPr/>
          <p:nvPr/>
        </p:nvPicPr>
        <p:blipFill>
          <a:blip r:embed="rId1"/>
          <a:stretch/>
        </p:blipFill>
        <p:spPr>
          <a:xfrm>
            <a:off x="404640" y="1362240"/>
            <a:ext cx="8334720" cy="4133520"/>
          </a:xfrm>
          <a:prstGeom prst="rect">
            <a:avLst/>
          </a:prstGeom>
          <a:ln w="0">
            <a:noFill/>
          </a:ln>
        </p:spPr>
      </p:pic>
      <p:sp>
        <p:nvSpPr>
          <p:cNvPr id="1481" name="矩形 126978"/>
          <p:cNvSpPr/>
          <p:nvPr/>
        </p:nvSpPr>
        <p:spPr>
          <a:xfrm>
            <a:off x="3995640" y="2349360"/>
            <a:ext cx="1081080" cy="5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矩形 126979"/>
          <p:cNvSpPr/>
          <p:nvPr/>
        </p:nvSpPr>
        <p:spPr>
          <a:xfrm>
            <a:off x="4608360" y="3424320"/>
            <a:ext cx="432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矩形 126980"/>
          <p:cNvSpPr/>
          <p:nvPr/>
        </p:nvSpPr>
        <p:spPr>
          <a:xfrm>
            <a:off x="6043680" y="3970440"/>
            <a:ext cx="431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矩形 126981"/>
          <p:cNvSpPr/>
          <p:nvPr/>
        </p:nvSpPr>
        <p:spPr>
          <a:xfrm>
            <a:off x="2894040" y="4960800"/>
            <a:ext cx="7412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10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10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1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10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5" name="图片 106497" descr=""/>
          <p:cNvPicPr/>
          <p:nvPr/>
        </p:nvPicPr>
        <p:blipFill>
          <a:blip r:embed="rId1"/>
          <a:stretch/>
        </p:blipFill>
        <p:spPr>
          <a:xfrm>
            <a:off x="738360" y="2395440"/>
            <a:ext cx="7667280" cy="2067120"/>
          </a:xfrm>
          <a:prstGeom prst="rect">
            <a:avLst/>
          </a:prstGeom>
          <a:ln w="0">
            <a:noFill/>
          </a:ln>
        </p:spPr>
      </p:pic>
      <p:sp>
        <p:nvSpPr>
          <p:cNvPr id="1486" name="矩形 106498"/>
          <p:cNvSpPr/>
          <p:nvPr/>
        </p:nvSpPr>
        <p:spPr>
          <a:xfrm>
            <a:off x="4938840" y="2395440"/>
            <a:ext cx="12175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矩形 106499"/>
          <p:cNvSpPr/>
          <p:nvPr/>
        </p:nvSpPr>
        <p:spPr>
          <a:xfrm>
            <a:off x="2004840" y="3919680"/>
            <a:ext cx="19908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10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10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8" name="图片 128001" descr=""/>
          <p:cNvPicPr/>
          <p:nvPr/>
        </p:nvPicPr>
        <p:blipFill>
          <a:blip r:embed="rId1"/>
          <a:stretch/>
        </p:blipFill>
        <p:spPr>
          <a:xfrm>
            <a:off x="442800" y="1143000"/>
            <a:ext cx="8258400" cy="4572000"/>
          </a:xfrm>
          <a:prstGeom prst="rect">
            <a:avLst/>
          </a:prstGeom>
          <a:ln w="0">
            <a:noFill/>
          </a:ln>
        </p:spPr>
      </p:pic>
      <p:sp>
        <p:nvSpPr>
          <p:cNvPr id="1489" name="矩形 128002"/>
          <p:cNvSpPr/>
          <p:nvPr/>
        </p:nvSpPr>
        <p:spPr>
          <a:xfrm>
            <a:off x="7740720" y="3213000"/>
            <a:ext cx="431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1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0" name="图片 129026" descr=""/>
          <p:cNvPicPr/>
          <p:nvPr/>
        </p:nvPicPr>
        <p:blipFill>
          <a:blip r:embed="rId1"/>
          <a:stretch/>
        </p:blipFill>
        <p:spPr>
          <a:xfrm>
            <a:off x="504720" y="2066760"/>
            <a:ext cx="8134560" cy="27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1" name="图片 130049" descr=""/>
          <p:cNvPicPr/>
          <p:nvPr/>
        </p:nvPicPr>
        <p:blipFill>
          <a:blip r:embed="rId1"/>
          <a:stretch/>
        </p:blipFill>
        <p:spPr>
          <a:xfrm>
            <a:off x="528480" y="2019240"/>
            <a:ext cx="8087040" cy="2819520"/>
          </a:xfrm>
          <a:prstGeom prst="rect">
            <a:avLst/>
          </a:prstGeom>
          <a:ln w="0">
            <a:noFill/>
          </a:ln>
        </p:spPr>
      </p:pic>
      <p:sp>
        <p:nvSpPr>
          <p:cNvPr id="1492" name="矩形 130050"/>
          <p:cNvSpPr/>
          <p:nvPr/>
        </p:nvSpPr>
        <p:spPr>
          <a:xfrm>
            <a:off x="7740720" y="2492280"/>
            <a:ext cx="431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3" name="图片 131073" descr=""/>
          <p:cNvPicPr/>
          <p:nvPr/>
        </p:nvPicPr>
        <p:blipFill>
          <a:blip r:embed="rId1"/>
          <a:stretch/>
        </p:blipFill>
        <p:spPr>
          <a:xfrm>
            <a:off x="414360" y="1500120"/>
            <a:ext cx="8315280" cy="3857760"/>
          </a:xfrm>
          <a:prstGeom prst="rect">
            <a:avLst/>
          </a:prstGeom>
          <a:ln w="0">
            <a:noFill/>
          </a:ln>
        </p:spPr>
      </p:pic>
      <p:sp>
        <p:nvSpPr>
          <p:cNvPr id="1494" name="矩形 131074"/>
          <p:cNvSpPr/>
          <p:nvPr/>
        </p:nvSpPr>
        <p:spPr>
          <a:xfrm>
            <a:off x="7812000" y="2637000"/>
            <a:ext cx="432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10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图片 132097" descr=""/>
          <p:cNvPicPr/>
          <p:nvPr/>
        </p:nvPicPr>
        <p:blipFill>
          <a:blip r:embed="rId1"/>
          <a:stretch/>
        </p:blipFill>
        <p:spPr>
          <a:xfrm>
            <a:off x="662040" y="2305080"/>
            <a:ext cx="781992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6" name="图片 133121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362800" cy="5019480"/>
          </a:xfrm>
          <a:prstGeom prst="rect">
            <a:avLst/>
          </a:prstGeom>
          <a:ln w="0">
            <a:noFill/>
          </a:ln>
        </p:spPr>
      </p:pic>
      <p:sp>
        <p:nvSpPr>
          <p:cNvPr id="1497" name="矩形 133122"/>
          <p:cNvSpPr/>
          <p:nvPr/>
        </p:nvSpPr>
        <p:spPr>
          <a:xfrm>
            <a:off x="5180040" y="2548080"/>
            <a:ext cx="8319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矩形 133123"/>
          <p:cNvSpPr/>
          <p:nvPr/>
        </p:nvSpPr>
        <p:spPr>
          <a:xfrm>
            <a:off x="6907320" y="3043080"/>
            <a:ext cx="8316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矩形 133124"/>
          <p:cNvSpPr/>
          <p:nvPr/>
        </p:nvSpPr>
        <p:spPr>
          <a:xfrm>
            <a:off x="5815080" y="3564000"/>
            <a:ext cx="8319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矩形 133125"/>
          <p:cNvSpPr/>
          <p:nvPr/>
        </p:nvSpPr>
        <p:spPr>
          <a:xfrm>
            <a:off x="6310440" y="4135320"/>
            <a:ext cx="1069920" cy="596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矩形 133126"/>
          <p:cNvSpPr/>
          <p:nvPr/>
        </p:nvSpPr>
        <p:spPr>
          <a:xfrm>
            <a:off x="6732720" y="4808520"/>
            <a:ext cx="1295280" cy="116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4" dur="10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9" dur="10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4" dur="10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9" dur="10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4" dur="10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2" name="图片 134145" descr=""/>
          <p:cNvPicPr/>
          <p:nvPr/>
        </p:nvPicPr>
        <p:blipFill>
          <a:blip r:embed="rId1"/>
          <a:stretch/>
        </p:blipFill>
        <p:spPr>
          <a:xfrm>
            <a:off x="623880" y="2152800"/>
            <a:ext cx="7896240" cy="2552400"/>
          </a:xfrm>
          <a:prstGeom prst="rect">
            <a:avLst/>
          </a:prstGeom>
          <a:ln w="0">
            <a:noFill/>
          </a:ln>
        </p:spPr>
      </p:pic>
      <p:sp>
        <p:nvSpPr>
          <p:cNvPr id="1503" name="矩形 134146"/>
          <p:cNvSpPr/>
          <p:nvPr/>
        </p:nvSpPr>
        <p:spPr>
          <a:xfrm>
            <a:off x="5003640" y="2565360"/>
            <a:ext cx="34038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矩形 134147"/>
          <p:cNvSpPr/>
          <p:nvPr/>
        </p:nvSpPr>
        <p:spPr>
          <a:xfrm>
            <a:off x="849240" y="3068640"/>
            <a:ext cx="32590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矩形 134148"/>
          <p:cNvSpPr/>
          <p:nvPr/>
        </p:nvSpPr>
        <p:spPr>
          <a:xfrm>
            <a:off x="4761000" y="3576600"/>
            <a:ext cx="355608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矩形 134149"/>
          <p:cNvSpPr/>
          <p:nvPr/>
        </p:nvSpPr>
        <p:spPr>
          <a:xfrm>
            <a:off x="963720" y="4097160"/>
            <a:ext cx="35557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1" dur="10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6" dur="10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1" dur="10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6" dur="10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6" name="图片 123905" descr=""/>
          <p:cNvPicPr/>
          <p:nvPr/>
        </p:nvPicPr>
        <p:blipFill>
          <a:blip r:embed="rId1"/>
          <a:stretch/>
        </p:blipFill>
        <p:spPr>
          <a:xfrm>
            <a:off x="452520" y="1852560"/>
            <a:ext cx="8238960" cy="3152880"/>
          </a:xfrm>
          <a:prstGeom prst="rect">
            <a:avLst/>
          </a:prstGeom>
          <a:ln w="0">
            <a:noFill/>
          </a:ln>
        </p:spPr>
      </p:pic>
      <p:sp>
        <p:nvSpPr>
          <p:cNvPr id="1437" name="矩形 123906"/>
          <p:cNvSpPr/>
          <p:nvPr/>
        </p:nvSpPr>
        <p:spPr>
          <a:xfrm>
            <a:off x="7885080" y="2421000"/>
            <a:ext cx="432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8" name="图片 122881" descr=""/>
          <p:cNvPicPr/>
          <p:nvPr/>
        </p:nvPicPr>
        <p:blipFill>
          <a:blip r:embed="rId1"/>
          <a:stretch/>
        </p:blipFill>
        <p:spPr>
          <a:xfrm>
            <a:off x="442800" y="1552680"/>
            <a:ext cx="8258400" cy="3752640"/>
          </a:xfrm>
          <a:prstGeom prst="rect">
            <a:avLst/>
          </a:prstGeom>
          <a:ln w="0">
            <a:noFill/>
          </a:ln>
        </p:spPr>
      </p:pic>
      <p:sp>
        <p:nvSpPr>
          <p:cNvPr id="1439" name="矩形 122882"/>
          <p:cNvSpPr/>
          <p:nvPr/>
        </p:nvSpPr>
        <p:spPr>
          <a:xfrm>
            <a:off x="1835280" y="2657520"/>
            <a:ext cx="8650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矩形 122883"/>
          <p:cNvSpPr/>
          <p:nvPr/>
        </p:nvSpPr>
        <p:spPr>
          <a:xfrm>
            <a:off x="6588000" y="3187800"/>
            <a:ext cx="12970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矩形 122884"/>
          <p:cNvSpPr/>
          <p:nvPr/>
        </p:nvSpPr>
        <p:spPr>
          <a:xfrm>
            <a:off x="2130480" y="4788000"/>
            <a:ext cx="24415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1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2" name="图片 121857" descr=""/>
          <p:cNvPicPr/>
          <p:nvPr/>
        </p:nvPicPr>
        <p:blipFill>
          <a:blip r:embed="rId1"/>
          <a:stretch/>
        </p:blipFill>
        <p:spPr>
          <a:xfrm>
            <a:off x="471600" y="966960"/>
            <a:ext cx="8200800" cy="4924080"/>
          </a:xfrm>
          <a:prstGeom prst="rect">
            <a:avLst/>
          </a:prstGeom>
          <a:ln w="0">
            <a:noFill/>
          </a:ln>
        </p:spPr>
      </p:pic>
      <p:sp>
        <p:nvSpPr>
          <p:cNvPr id="1443" name="矩形 121858"/>
          <p:cNvSpPr/>
          <p:nvPr/>
        </p:nvSpPr>
        <p:spPr>
          <a:xfrm>
            <a:off x="2259000" y="4821120"/>
            <a:ext cx="80028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矩形 121859"/>
          <p:cNvSpPr/>
          <p:nvPr/>
        </p:nvSpPr>
        <p:spPr>
          <a:xfrm>
            <a:off x="7021440" y="4834080"/>
            <a:ext cx="158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矩形 121860"/>
          <p:cNvSpPr/>
          <p:nvPr/>
        </p:nvSpPr>
        <p:spPr>
          <a:xfrm>
            <a:off x="1446120" y="5354640"/>
            <a:ext cx="18306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6" name="图片 120833" descr=""/>
          <p:cNvPicPr/>
          <p:nvPr/>
        </p:nvPicPr>
        <p:blipFill>
          <a:blip r:embed="rId1"/>
          <a:stretch/>
        </p:blipFill>
        <p:spPr>
          <a:xfrm>
            <a:off x="590400" y="2128680"/>
            <a:ext cx="7963200" cy="2600640"/>
          </a:xfrm>
          <a:prstGeom prst="rect">
            <a:avLst/>
          </a:prstGeom>
          <a:ln w="0">
            <a:noFill/>
          </a:ln>
        </p:spPr>
      </p:pic>
      <p:sp>
        <p:nvSpPr>
          <p:cNvPr id="1447" name="矩形 120834"/>
          <p:cNvSpPr/>
          <p:nvPr/>
        </p:nvSpPr>
        <p:spPr>
          <a:xfrm>
            <a:off x="2106720" y="4249800"/>
            <a:ext cx="5634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8" name="图片 119809" descr=""/>
          <p:cNvPicPr/>
          <p:nvPr/>
        </p:nvPicPr>
        <p:blipFill>
          <a:blip r:embed="rId1"/>
          <a:stretch/>
        </p:blipFill>
        <p:spPr>
          <a:xfrm>
            <a:off x="404640" y="1266840"/>
            <a:ext cx="8334720" cy="4324320"/>
          </a:xfrm>
          <a:prstGeom prst="rect">
            <a:avLst/>
          </a:prstGeom>
          <a:ln w="0">
            <a:noFill/>
          </a:ln>
        </p:spPr>
      </p:pic>
      <p:pic>
        <p:nvPicPr>
          <p:cNvPr id="1449" name="图片 119810" descr=""/>
          <p:cNvPicPr/>
          <p:nvPr/>
        </p:nvPicPr>
        <p:blipFill>
          <a:blip r:embed="rId2"/>
          <a:stretch/>
        </p:blipFill>
        <p:spPr>
          <a:xfrm>
            <a:off x="1258920" y="5445000"/>
            <a:ext cx="7334280" cy="619200"/>
          </a:xfrm>
          <a:prstGeom prst="rect">
            <a:avLst/>
          </a:prstGeom>
          <a:ln w="0">
            <a:noFill/>
          </a:ln>
        </p:spPr>
      </p:pic>
      <p:sp>
        <p:nvSpPr>
          <p:cNvPr id="1450" name="矩形 119811"/>
          <p:cNvSpPr/>
          <p:nvPr/>
        </p:nvSpPr>
        <p:spPr>
          <a:xfrm>
            <a:off x="2513160" y="2751120"/>
            <a:ext cx="431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4" dur="1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1" name="图片 118785" descr=""/>
          <p:cNvPicPr/>
          <p:nvPr/>
        </p:nvPicPr>
        <p:blipFill>
          <a:blip r:embed="rId1"/>
          <a:stretch/>
        </p:blipFill>
        <p:spPr>
          <a:xfrm>
            <a:off x="581040" y="2119320"/>
            <a:ext cx="7981920" cy="2619360"/>
          </a:xfrm>
          <a:prstGeom prst="rect">
            <a:avLst/>
          </a:prstGeom>
          <a:ln w="0">
            <a:noFill/>
          </a:ln>
        </p:spPr>
      </p:pic>
      <p:sp>
        <p:nvSpPr>
          <p:cNvPr id="1452" name="矩形 118786"/>
          <p:cNvSpPr/>
          <p:nvPr/>
        </p:nvSpPr>
        <p:spPr>
          <a:xfrm>
            <a:off x="3110040" y="2649600"/>
            <a:ext cx="8143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矩形 118787"/>
          <p:cNvSpPr/>
          <p:nvPr/>
        </p:nvSpPr>
        <p:spPr>
          <a:xfrm>
            <a:off x="3465360" y="3182760"/>
            <a:ext cx="81468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1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1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图片 117761" descr=""/>
          <p:cNvPicPr/>
          <p:nvPr/>
        </p:nvPicPr>
        <p:blipFill>
          <a:blip r:embed="rId1"/>
          <a:stretch/>
        </p:blipFill>
        <p:spPr>
          <a:xfrm>
            <a:off x="514440" y="1914480"/>
            <a:ext cx="8115120" cy="3029040"/>
          </a:xfrm>
          <a:prstGeom prst="rect">
            <a:avLst/>
          </a:prstGeom>
          <a:ln w="0">
            <a:noFill/>
          </a:ln>
        </p:spPr>
      </p:pic>
      <p:sp>
        <p:nvSpPr>
          <p:cNvPr id="1455" name="矩形 117762"/>
          <p:cNvSpPr/>
          <p:nvPr/>
        </p:nvSpPr>
        <p:spPr>
          <a:xfrm>
            <a:off x="6297480" y="2370240"/>
            <a:ext cx="432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01T09:23:44Z</dcterms:modified>
  <cp:revision>3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